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F2F-937F-44E0-84FF-315AF357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1D6-C341-45A0-9FCB-2AACA3B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4D9-98F6-4244-ADCB-95E22320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2E5-D2BB-44A3-96F9-6EA185C0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1927-36D5-4F19-A2ED-E6B5FD17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C37-0587-4C8B-8CB5-F8009223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4352-8DCA-4796-B19C-14081C24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757A-1CD0-47AF-A754-87444287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D6C-14FA-41FF-99EC-D1D85AC8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BFE-6281-49B3-AB19-69E9B658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75A-47CE-4B1B-A0A3-C4AFC55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D83-7A43-4A7E-8C1E-2CA57F85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B6C-AB49-4AF7-B30F-5B58A8A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8F92-9339-45EF-A414-1362558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7150-9F92-4FDB-A039-703F670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7F17-DBE7-41B9-8218-7D7D601D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10FC-0A36-4049-B55D-E73C40B8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9FC3A-2D44-4D7A-848A-04AB6194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F58B1-21C4-4A4C-A14A-83D44D04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AEEB0-4735-498D-BBDE-DC944C1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EC278-6523-4253-B05A-22A7DFF0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6E1E6-F44A-4095-B29C-E6A8587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F02-7453-4656-9D4C-D106F956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CBF58-FEC9-4670-9364-E96476D4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F1196-5603-4748-8387-B0D25C82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F4D3A-71B6-4BF7-8C91-CBA3CD1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A8638-7AB8-4E3D-B601-82120C7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C5B2F-4888-4299-A370-B838562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D04C8-CC65-4184-84C9-754516E6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12C51-6F8D-40CE-82B7-8325A3F1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2B8D-8A46-4992-8DAC-4E59705D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D5D5-A0B7-4148-8399-C45C5F02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6204-98A8-48C3-91F9-699E0A14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45F-742F-4607-BEB5-37EE7D1B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E543-FE46-4EAB-9C3C-A3F70EE8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7AE2-E2C7-4908-8316-337260A6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4CF5-C6D8-4816-8197-FBE450B2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1A1B-CE23-47A3-90BD-EA6A5C52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3FF7-4698-4AE9-B9E0-1567D7F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38448-1C62-4FE2-BC01-1A4E867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85D4C-A8DF-42E7-9EE8-34096051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6197-0413-4EDF-9187-F7C4737E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FCE4-A9C1-47D3-BE94-1AAC658A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C47-B60F-4C85-BB4F-58339DE9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E25-DA89-4CDF-9CE6-3EBD040C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A9E-33AF-4033-B1E3-05D7B454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396-1A70-4986-98A9-883A258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1E5-AF03-4972-9B93-AAA14AD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6F1-FB48-406F-BBFB-1FF680D6E5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2CF-C30D-4C6B-A4CF-7EB88F16F7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6676-40A8-476E-BC66-E1B9F8E75F75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8AD1-8C22-4206-9451-663BFAFE364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lectricity At Wor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68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trina and H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ope you enjoyed our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earned mo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ity at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Blackadder ITC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ating materials can be charged with static electricity by rubbing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electricity can make things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kinds of charge, positive and negative.                                                                                                                 Positive + Negative = Attraction                                         Negative + Negative = No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+ Positive = No Attraction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s &amp; Electr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is made of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have both  positive &amp;  negativ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itive charge is on the protons and the negative charge is on th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 rub a polythene rod with a cloth some of the electrons  move from the cloth to the rod. The rod now has a negative charge and the cloth has a posi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electrons can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under &amp; Light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nder and lightning is caused when a cloud becomes charged with static electri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 build up causes a sp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under noise is caused by the lightning jumping between the cloud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ning conductors help to protect buil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magnets are fixed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can be used to find No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 magnet can be used to make a pin into a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north poles and two south poles will re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poles will at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ic fiel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ace around a magnet is called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filings can be used to find the shape of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fields go from north to so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currents can be used to make electro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magnet is an iron rod with a coil of wire wrapped aroun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here is electricity flowing through the wire the electromagnet will work like a bar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can be used to make buzzers &amp; b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lay is a switch that is turned on &amp; off by an electro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ed switch that is turned on &amp; off by a electromagnet is called a reed re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ys are used to make switches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s use relay switches to  turn on the starter mo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ing 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lots of uses for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are used in loudspeakers, fridge doors &amp; sump plu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rains use electromagnets instead of whe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are used to move iron &amp; st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15Z</dcterms:created>
  <dc:creator>macleankatr</dc:creator>
  <dc:description/>
  <dc:language>en-US</dc:language>
  <cp:lastModifiedBy>GashH</cp:lastModifiedBy>
  <dcterms:modified xsi:type="dcterms:W3CDTF">2006-01-26T15:25:21Z</dcterms:modified>
  <cp:revision>6</cp:revision>
  <dc:subject/>
  <dc:title>Electricity At Work</dc:title>
</cp:coreProperties>
</file>